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036440" y="712800"/>
            <a:ext cx="50022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708120" y="4457520"/>
            <a:ext cx="56592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dt" idx="52"/>
          </p:nvPr>
        </p:nvSpPr>
        <p:spPr>
          <a:xfrm>
            <a:off x="400536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ftr" idx="53"/>
          </p:nvPr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 type="sldNum" idx="54"/>
          </p:nvPr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FEF38-309E-4FE2-B758-399952D3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09DBD-C4CF-49C2-B4A7-CD3B996E6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F5D12-3A9C-4EAC-AA82-AA2DC56B1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B14FD-2A41-4469-A754-14C61E6C2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4FC80-087F-40DE-A92E-D45443566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55028-0D03-4AAD-A349-9F081AA0E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B3FE0-B186-4BE6-BD38-C3C454BB7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BE333-76AC-4BC6-AD9E-8BAB837EF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E0050-943A-4A30-86CF-1D24739F0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0D6A6-3E1E-47C3-B527-75539349C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0D1DF-FB8E-4AFC-8F60-D58CB8D69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2DAC5-4E4B-4EC6-A879-C436EE305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18116-6020-4E05-9039-C12653D36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5C9C6-BE74-41B2-A7A1-74AEEEE7B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AC590-96D3-4C15-B402-CAD721F68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D0F-7F75-4275-9045-F936EED6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103-4A18-41DD-B6EB-FE878EB3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4345F-196C-4B6A-9BC0-ECC9FDAB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37B74-CB0C-4C30-AEAC-3C8F116D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470B4-93AF-414A-9597-DA65B0DB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2A155-E64C-4092-AA15-7C1B616B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2D8BB-C719-4318-A5A0-47628BB4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EC8A-B6FE-4DFF-8D8D-EB55FCE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9DBFA-8922-45C9-82E2-125A4BD4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F384C-964F-4557-A4DC-14CD8796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7267E-6CE3-4BF4-BDEA-35EF22DA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150A0-7662-423D-9A8E-D46E7B6E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6E6-5B75-425D-8B55-8F8AE2B1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3A74D-2E6E-4410-9F29-8726DAFB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F340E-216A-4E42-9F82-5294BB62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90DDE-811E-41D9-8648-24501672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03E7C-A8BB-45F9-9A51-F448FE82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6C245-42D5-4389-BB4C-6FDB8637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82995-38E1-49E4-9FCB-5A2CAE0E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2108E-06E5-4573-BDEE-E28E317B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02E54-976E-4B1A-8BB0-A71DFFA4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954AA-1E9E-4D32-B61A-85609430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77D09-C76E-471F-81F8-9432CDDA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13D-0169-4F7E-B085-8D2A32E2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FA896-4221-456C-9AC0-12EC0D99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6A0B5-97D7-4A17-B89D-0A250B39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7CF5E-6E89-4D78-B674-42C17C0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457D7-3816-4F6D-9715-42BB3D93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C404C-279F-407A-B6D2-C7B15B10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D3BE8-42D8-46FA-B0D6-76B09D60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C39E4-F1AD-428C-8D7E-CDD54CE4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6F9EA-56F1-4917-94F9-6291613C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D05BF-F913-453E-8B6E-A8DF71E9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FCDAD-7D8A-4C3F-9EFF-8455686E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77DB-ADAE-4138-BF1C-060C07E2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07622-8D18-46CE-9EFD-24A2BF56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DC2AE-E254-43C3-9C0E-1BF15934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51AE2-81D3-4CDF-B489-B7305ACB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FF1C6-9A93-4F73-A848-F23D4361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AF293-D54F-48FC-9C73-91E72628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F2ABE-9444-4090-8788-BA865D7B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F8003-C99B-4D2C-89B4-0DB9BC2B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AC525-9692-4ECF-B19F-66413D10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F95E7-0834-40EB-B1C1-F72255F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49141-3914-490D-A44B-9EC251C7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B950-B635-49CB-BD52-9049DDD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934A9-792D-4A21-BAF1-0F9FE13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90208-140D-4C66-AFCB-090FFC0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A87D6-B330-432A-A3E3-032229AE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C9C03-3321-4D9A-B293-44FC8152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136B4-6EF0-4815-8E3D-0A216054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A2E6D-DCE7-4460-B11F-8A3BDD64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76023-331F-4CED-8C1E-7DA3C56D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F00EF-DEDA-45B1-8813-B2DA2219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1A347-5AB8-4880-A86D-B35252A3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E783D-0A61-4860-930F-CC9ED959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F900-4389-4ECA-B178-D86E0746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C3DE0-881A-4BEB-87C6-174D4F44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4967C-27B8-4BC1-B3B1-7EAB773F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140CA-4B4D-401D-B5B6-8A9D8D62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C6618-EFD2-4C68-BA6C-AF0678E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ED819-5C85-41E3-9439-43A2F364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4E6D6-95E4-46E6-89D2-4FE7853F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B253D-F3A9-4815-869D-D1BA6DA7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C87E9-2962-40B3-8312-EBE1976C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BC925-346C-4D20-AFA3-C99D918B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E5133-FB19-4CDA-9AF3-C7226060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227A-9D01-43B6-B968-2C1DD613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66B50-8856-41CB-A6CB-93334096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14055-E45F-4336-887A-EB97D94E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D65CF-DF83-419C-9683-F821C06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3E9D7-DB8E-4308-8FF0-351EF66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DAB0B-2CD6-40BB-986F-7ADA8A9F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696EB-82D8-42C9-AA59-B76D722E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EDCD3-E983-4FD1-BE9E-C41C17D9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14D3C-FDD8-4FD0-B31D-085232E0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56ED1-3288-4716-AAE6-64FF2E5C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9F69F-C4E4-4980-867C-48F4A5A6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2BA3-FA7E-4A27-B977-74B5D280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9E1EA-F509-4DB0-86F4-4FC4D15B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628AF-2BF6-4F5A-A9AA-72AC9C5A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82E1D-0582-4F26-9A54-F5879A95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96432-309B-48C4-BD52-F479D1FD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7144C-828B-4223-B8FB-70B90D93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87A89-7EAF-46FA-889F-9303C4A8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CF916-FCFC-44DC-B701-64D4B024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DCBD1-024E-4E5B-8500-6C0B912C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9D6F8-6549-45B4-8B77-8B26BF9A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3FD04-7096-4FCF-8230-60EFC006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D724-5323-420A-BE5E-5B45F844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89827-8A5F-4A92-A0D0-80BAFBBA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01AF4-DBD5-4524-BD91-DCE03590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2E905-A004-4C0C-9077-E538B368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8EA2F-4658-4523-96AA-875A268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1FD92-E827-4274-BC58-2B88E064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655C5-98D0-4E9A-BBEB-7A1A0889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A8BB0-D220-48CD-A347-E3583AF1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81E77-7537-4FF7-ABF2-F72B8444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4F171-FAEB-423C-9E0C-6940FBDE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1B6CC-0E2C-4267-B15F-465DED06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431A-34C3-4B1B-9EA1-D428139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09AC4-34C8-4899-86BF-7753207C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D59E9-7D7E-42E2-A140-A68514F1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FD0F3-F971-407E-B801-B5F75FEA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BD3C2A-2E0F-4267-BFBB-AAB8BBBD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A675C-002E-4F22-A9D0-A9D52C07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638F4-005A-443E-9D05-0ECF4AEA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8CBE7F-FC25-47CE-9FCE-43A7DA46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786A4-88B0-4CB6-A25D-4B8A892B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D6830-C5D4-499E-AB27-2DA5AD2B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BDE9C-4B22-42F1-BF68-83E0A2B9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B20-A946-4AEA-AFF6-6F1D8074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0D5-FB9C-4617-B215-2479B5E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6AA55-9A82-4F89-BB9E-AB3444A7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46B25-9B04-4031-8F87-41FE66AA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9EAA4-E449-4E09-8C58-D3E64F57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C0A5E-109D-41D6-A224-3F032054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4FDE8-71B4-4E81-A9C8-D1C46D02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A36-2B18-4C3F-A940-AC21C68B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835D-0DC6-46B7-A371-F0FA54ED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BA9-DA69-4483-82F8-E856FC6C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F491-CA7E-4F75-ABBB-9E78C893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A8DA-4A54-46CC-85EC-3543A14B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E3B8-4CA2-4796-BDD3-39CDC5BA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CB3E-07B9-4F81-BA36-956C4A85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4FEC-8730-42BA-A998-2195F101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A301-A960-4109-B73F-F2649A2D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560-3875-4E21-9E6B-0E163C45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1684-7F77-43F4-A185-52D16386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BB0E-9A00-445B-A28F-4FCCB814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E552-6F95-4DDE-BC55-9A4B0760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4BAE-0380-42CF-85BC-18C9431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E44B-1770-446E-BB48-47956ED1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B0A12-3F2C-4112-A5A1-71A27F9E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6B45-B7CF-48F6-9BA0-938BE611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82A33-A037-4E6C-BAD0-A1028B1E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41CF-315E-4C37-9E7F-4A843DD1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65C9-D69B-4601-9E89-747F7662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3A5-17F2-4019-B136-D434DB8E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5AA3-1B27-4043-9F62-83AEC056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42888-D8C9-4F90-BF2A-EE1067B9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2B63-9669-401E-BA01-906DE16B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2907-A38D-426B-9BBB-65A13CF3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B6AE8-3429-48D5-9944-0510C418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9D6A7-ADA1-4880-8363-8B0833D9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84C0A-CE26-4F64-AE15-A3701E67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878A-0090-4A3C-8C02-78334C44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F769B-F2C5-45C8-8FC5-B55DCA1A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64BE4-058D-4943-9541-F1479AE2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4E0-199E-4AE3-AD18-46901BB4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05E1-AEA6-4435-AF7F-19934372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51C5-A039-44C4-9636-24EC566A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56C25-B631-47F3-8CF0-BC0E7B6E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14A6-65F2-40A8-A522-38719886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2000C-42E5-40FE-8871-563C28C7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568F-5660-418C-800F-F657E785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3D71-82D9-4E61-8EAA-B9E9773C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6A19F-542F-406F-96EF-364D3ED8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B6104-C610-4024-B8A1-6A4BD3D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42F7-8864-4712-8852-3ECEDF8D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6F0-CAFC-487C-B3BC-34A3E336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4687-9958-4B24-9336-4295E4CE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68B08-7C9E-4C63-8E7F-383B3B14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C1090-FF84-4553-838F-BF969524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F58E5-EBB8-4A22-86DD-002FDC5D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F4512-A361-42C4-B90C-47C64FD8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91564-7ABD-4085-956B-546F962B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AB167-EE4A-4A40-B07D-19C661FA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C7E9C-2C1C-45B0-BB7D-8F0A865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CB33B-4315-4207-A983-74BC2744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BCE73-6D96-4524-B226-5007A982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C30-F331-4C56-8F81-8FC3F605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EEF59-0896-4E82-BDDD-5CC2E03E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B0333-C230-4E91-91D2-99740A2E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2E944-7794-4375-B351-DF1B4E56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09096-1F14-42B7-9DE3-5483B97B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2BAD-698E-4B0F-AD38-12AD0022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A456A-E41A-4495-A63B-6B72D20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6A92D-A507-44AD-9C35-7F426EF6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B900A-782F-4761-82D4-0A601DC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321B2-8425-4704-9CB2-4B0A0497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FD909-E4E8-4329-AA2A-D434BFC2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B00-987E-45AB-9AA9-157227A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F99C5-1DA6-4C8D-A6EF-2FD8CFBA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1D926-1496-495C-AC83-4AC45AC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2952-4622-4B38-A9DA-864C5283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888C9-B2EF-4376-B646-41BCCB6D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F2EFA-1C76-4B35-B1E1-D66B2961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C9985-112E-4C7B-AF39-73756658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C593F-3348-4626-AC77-6FA89CEB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DF6BE-7DAE-44B0-9AA2-C216E2BD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E35E5-D951-434C-A5DA-1277E64E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BFF13-3482-4273-92E6-FC6424C3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C06-522D-4742-89DF-6FC6C7B0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4D5C9-212A-4B62-BBBA-67E7E596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65DAE-7BDE-4F1B-9E15-655AB98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5DFA5-CE8F-4F80-A74C-676EEFE4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4DE5B-0557-408C-A895-2DF17B65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BF266-8599-4B56-80FB-3818E0E8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C28B0-9E38-43B7-B24C-14226E9C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08AE2-1BEB-4A01-8923-C6DE8704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68D38-8F0C-4B04-B90F-63BF827A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E4412-1114-4148-9AE9-8345E916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8F92B-67B6-445C-891F-04E4A0D7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4960" y="563148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BB10B-220A-4D52-8ABD-93EB62DFD3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28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29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24A70-1A11-4D3C-AF85-40639C31911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CF62F-BED6-4BAA-9CD3-D542C183AB5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34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35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36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70BA-9C39-4817-B82E-6B526930660D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7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8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9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54E-6672-457C-8968-987078AF5819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D095E-AD0D-4304-BE07-8EF18175B73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4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DC51C-2FDF-465B-8814-6A5B7CCA3C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77882-F850-4FA9-B4E0-7CA949707A1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49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D563F-1931-440D-9384-4B5F863FC03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4960" y="563148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2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31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9A09B-B0AD-4792-9230-117EA9170F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F661B-9ED8-43D8-AD90-0346E59073E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1F6D3-3012-40F8-9847-D9B76E08B87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B83B6-56F3-47E6-85C0-29929C0483B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38E85-95AB-415A-800C-B6CBD7AEF14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194A3-93B7-46AC-9AA8-14CB704DB0D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D7735-0B74-49AD-83AB-9A7E62133CC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18823-73DC-4262-88D7-D1983226E01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21608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hapter 4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Momentum and Collision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FFF1C-0C61-48CE-B755-61813F219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 who wins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07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B8F22-9A72-4430-927D-C7334C320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1784880" y="209232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2886480" y="320040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remove" presetClass="emph" presetID="6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remove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A479F-D5F7-4807-8BC8-40B4518B4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D8583-8495-4AC3-A33F-29A8472B3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5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220" dur="5000" fill="hold"/>
                                        <p:tgtEl>
                                          <p:spTgt spid="1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229" dur="500" fill="hold"/>
                                        <p:tgtEl>
                                          <p:spTgt spid="1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233" dur="5000" fill="hold"/>
                                        <p:tgtEl>
                                          <p:spTgt spid="1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1047E-006 1.51796E-006 L 1.47316 -0.01344 E">
                                      <p:cBhvr>
                                        <p:cTn id="235" dur="500" fill="hold"/>
                                        <p:tgtEl>
                                          <p:spTgt spid="1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81F09-AF76-4991-A5A1-E7FA260F5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0D982-4A8F-4465-BE15-E697AC05E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22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4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2"/>
          <p:cNvSpPr/>
          <p:nvPr/>
        </p:nvSpPr>
        <p:spPr>
          <a:xfrm>
            <a:off x="2743920" y="1905120"/>
            <a:ext cx="421920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O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r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Time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 Box 2"/>
          <p:cNvSpPr/>
          <p:nvPr/>
        </p:nvSpPr>
        <p:spPr>
          <a:xfrm>
            <a:off x="1721880" y="2590920"/>
            <a:ext cx="605880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a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Attenti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 Box 2"/>
          <p:cNvSpPr/>
          <p:nvPr/>
        </p:nvSpPr>
        <p:spPr>
          <a:xfrm>
            <a:off x="1212120" y="4876920"/>
            <a:ext cx="7158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Now Watc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2"/>
          <p:cNvSpPr/>
          <p:nvPr/>
        </p:nvSpPr>
        <p:spPr>
          <a:xfrm>
            <a:off x="1212120" y="4846680"/>
            <a:ext cx="7158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Now Watc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246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25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6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1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275" dur="5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2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289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1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293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29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298" dur="500" fill="hold"/>
                                        <p:tgtEl>
                                          <p:spTgt spid="1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302" dur="5000" fill="hold"/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1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1047E-006 1.51796E-006 L 1.47316 -0.01344 E">
                                      <p:cBhvr>
                                        <p:cTn id="318" dur="500" fill="hold"/>
                                        <p:tgtEl>
                                          <p:spTgt spid="1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o wins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3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39C9A-04C2-4DC2-BDF8-B88711972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2"/>
          <p:cNvSpPr/>
          <p:nvPr/>
        </p:nvSpPr>
        <p:spPr>
          <a:xfrm>
            <a:off x="1533960" y="356544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3"/>
          <p:cNvSpPr/>
          <p:nvPr/>
        </p:nvSpPr>
        <p:spPr>
          <a:xfrm>
            <a:off x="2810160" y="469116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4"/>
          <p:cNvSpPr/>
          <p:nvPr/>
        </p:nvSpPr>
        <p:spPr>
          <a:xfrm>
            <a:off x="673920" y="237024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4"/>
          <p:cNvSpPr/>
          <p:nvPr/>
        </p:nvSpPr>
        <p:spPr>
          <a:xfrm>
            <a:off x="3304800" y="1447920"/>
            <a:ext cx="26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Equa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4"/>
          <p:cNvSpPr/>
          <p:nvPr/>
        </p:nvSpPr>
        <p:spPr>
          <a:xfrm>
            <a:off x="3371040" y="3886200"/>
            <a:ext cx="243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im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4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00243 -0.34445 E">
                                      <p:cBhvr>
                                        <p:cTn id="361" dur="2000" fill="hold"/>
                                        <p:tgtEl>
                                          <p:spTgt spid="1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322"/>
                            </p:stCondLst>
                            <p:childTnLst>
                              <p:par>
                                <p:cTn id="380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-0.00277 -0.1743 E">
                                      <p:cBhvr>
                                        <p:cTn id="381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322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AC895-4309-440C-A723-D5D87FB8E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 Box 2"/>
          <p:cNvSpPr/>
          <p:nvPr/>
        </p:nvSpPr>
        <p:spPr>
          <a:xfrm>
            <a:off x="3000240" y="1730520"/>
            <a:ext cx="314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m 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3"/>
          <p:cNvSpPr/>
          <p:nvPr/>
        </p:nvSpPr>
        <p:spPr>
          <a:xfrm>
            <a:off x="2803680" y="1889280"/>
            <a:ext cx="362736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2160000" y="3124080"/>
            <a:ext cx="45316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Unit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kg-m/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4"/>
          <p:cNvSpPr/>
          <p:nvPr/>
        </p:nvSpPr>
        <p:spPr>
          <a:xfrm>
            <a:off x="673920" y="-3348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2"/>
          <p:cNvSpPr/>
          <p:nvPr/>
        </p:nvSpPr>
        <p:spPr>
          <a:xfrm>
            <a:off x="2211120" y="5105520"/>
            <a:ext cx="436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Vecto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F413C-E1DE-4E02-8F5B-5AF91E804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2"/>
          <p:cNvSpPr/>
          <p:nvPr/>
        </p:nvSpPr>
        <p:spPr>
          <a:xfrm>
            <a:off x="1584000" y="15238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1098720" y="3581280"/>
            <a:ext cx="682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Group 2"/>
          <p:cNvGrpSpPr/>
          <p:nvPr/>
        </p:nvGrpSpPr>
        <p:grpSpPr>
          <a:xfrm>
            <a:off x="-2133720" y="4648320"/>
            <a:ext cx="1827000" cy="1369440"/>
            <a:chOff x="-2133720" y="4648320"/>
            <a:chExt cx="1827000" cy="1369440"/>
          </a:xfrm>
        </p:grpSpPr>
        <p:pic>
          <p:nvPicPr>
            <p:cNvPr id="1037" name="Picture 3" descr=""/>
            <p:cNvPicPr/>
            <p:nvPr/>
          </p:nvPicPr>
          <p:blipFill>
            <a:blip r:embed="rId1"/>
            <a:stretch/>
          </p:blipFill>
          <p:spPr>
            <a:xfrm>
              <a:off x="-2133720" y="4648320"/>
              <a:ext cx="182700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4" descr=""/>
            <p:cNvPicPr/>
            <p:nvPr/>
          </p:nvPicPr>
          <p:blipFill>
            <a:blip r:embed="rId2"/>
            <a:stretch/>
          </p:blipFill>
          <p:spPr>
            <a:xfrm>
              <a:off x="-205740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Picture 5" descr=""/>
            <p:cNvPicPr/>
            <p:nvPr/>
          </p:nvPicPr>
          <p:blipFill>
            <a:blip r:embed="rId3"/>
            <a:stretch/>
          </p:blipFill>
          <p:spPr>
            <a:xfrm>
              <a:off x="-83808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6"/>
          <p:cNvGrpSpPr/>
          <p:nvPr/>
        </p:nvGrpSpPr>
        <p:grpSpPr>
          <a:xfrm>
            <a:off x="-2286000" y="2057400"/>
            <a:ext cx="1712880" cy="1712880"/>
            <a:chOff x="-2286000" y="2057400"/>
            <a:chExt cx="1712880" cy="1712880"/>
          </a:xfrm>
        </p:grpSpPr>
        <p:pic>
          <p:nvPicPr>
            <p:cNvPr id="1041" name="Picture 7" descr=""/>
            <p:cNvPicPr/>
            <p:nvPr/>
          </p:nvPicPr>
          <p:blipFill>
            <a:blip r:embed="rId4"/>
            <a:stretch/>
          </p:blipFill>
          <p:spPr>
            <a:xfrm>
              <a:off x="-2286000" y="205740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8" descr=""/>
            <p:cNvPicPr/>
            <p:nvPr/>
          </p:nvPicPr>
          <p:blipFill>
            <a:blip r:embed="rId5"/>
            <a:stretch/>
          </p:blipFill>
          <p:spPr>
            <a:xfrm>
              <a:off x="-2209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Picture 9" descr=""/>
            <p:cNvPicPr/>
            <p:nvPr/>
          </p:nvPicPr>
          <p:blipFill>
            <a:blip r:embed="rId6"/>
            <a:stretch/>
          </p:blipFill>
          <p:spPr>
            <a:xfrm>
              <a:off x="-1066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4" name="Group 2"/>
          <p:cNvGrpSpPr/>
          <p:nvPr/>
        </p:nvGrpSpPr>
        <p:grpSpPr>
          <a:xfrm>
            <a:off x="-2133720" y="4648320"/>
            <a:ext cx="1827000" cy="1369440"/>
            <a:chOff x="-2133720" y="4648320"/>
            <a:chExt cx="1827000" cy="1369440"/>
          </a:xfrm>
        </p:grpSpPr>
        <p:pic>
          <p:nvPicPr>
            <p:cNvPr id="1045" name="Picture 3" descr=""/>
            <p:cNvPicPr/>
            <p:nvPr/>
          </p:nvPicPr>
          <p:blipFill>
            <a:blip r:embed="rId7"/>
            <a:stretch/>
          </p:blipFill>
          <p:spPr>
            <a:xfrm>
              <a:off x="-2133720" y="4648320"/>
              <a:ext cx="182700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" descr=""/>
            <p:cNvPicPr/>
            <p:nvPr/>
          </p:nvPicPr>
          <p:blipFill>
            <a:blip r:embed="rId8"/>
            <a:stretch/>
          </p:blipFill>
          <p:spPr>
            <a:xfrm>
              <a:off x="-205740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5" descr=""/>
            <p:cNvPicPr/>
            <p:nvPr/>
          </p:nvPicPr>
          <p:blipFill>
            <a:blip r:embed="rId9"/>
            <a:stretch/>
          </p:blipFill>
          <p:spPr>
            <a:xfrm>
              <a:off x="-83808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8" name="Group 6"/>
          <p:cNvGrpSpPr/>
          <p:nvPr/>
        </p:nvGrpSpPr>
        <p:grpSpPr>
          <a:xfrm>
            <a:off x="-2286000" y="2057400"/>
            <a:ext cx="1712880" cy="1712880"/>
            <a:chOff x="-2286000" y="2057400"/>
            <a:chExt cx="1712880" cy="1712880"/>
          </a:xfrm>
        </p:grpSpPr>
        <p:pic>
          <p:nvPicPr>
            <p:cNvPr id="1049" name="Picture 7" descr=""/>
            <p:cNvPicPr/>
            <p:nvPr/>
          </p:nvPicPr>
          <p:blipFill>
            <a:blip r:embed="rId10"/>
            <a:stretch/>
          </p:blipFill>
          <p:spPr>
            <a:xfrm>
              <a:off x="-2286000" y="205740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8" descr=""/>
            <p:cNvPicPr/>
            <p:nvPr/>
          </p:nvPicPr>
          <p:blipFill>
            <a:blip r:embed="rId11"/>
            <a:stretch/>
          </p:blipFill>
          <p:spPr>
            <a:xfrm>
              <a:off x="-2209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9" descr=""/>
            <p:cNvPicPr/>
            <p:nvPr/>
          </p:nvPicPr>
          <p:blipFill>
            <a:blip r:embed="rId12"/>
            <a:stretch/>
          </p:blipFill>
          <p:spPr>
            <a:xfrm>
              <a:off x="-1066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12" dur="2000" fill="hold"/>
                                        <p:tgtEl>
                                          <p:spTgt spid="10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21" dur="5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25" dur="2000" fill="hold"/>
                                        <p:tgtEl>
                                          <p:spTgt spid="10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27" dur="5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3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5C2D0-D4B4-435E-BA62-818466E29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2"/>
          <p:cNvSpPr/>
          <p:nvPr/>
        </p:nvSpPr>
        <p:spPr>
          <a:xfrm>
            <a:off x="2622960" y="1447920"/>
            <a:ext cx="389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2216880" y="3581280"/>
            <a:ext cx="48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6" name="Picture 4" descr=""/>
          <p:cNvPicPr/>
          <p:nvPr/>
        </p:nvPicPr>
        <p:blipFill>
          <a:blip r:embed="rId1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6" descr=""/>
          <p:cNvPicPr/>
          <p:nvPr/>
        </p:nvPicPr>
        <p:blipFill>
          <a:blip r:embed="rId2"/>
          <a:stretch/>
        </p:blipFill>
        <p:spPr>
          <a:xfrm>
            <a:off x="-1378080" y="266544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6" descr=""/>
          <p:cNvPicPr/>
          <p:nvPr/>
        </p:nvPicPr>
        <p:blipFill>
          <a:blip r:embed="rId3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6" descr=""/>
          <p:cNvPicPr/>
          <p:nvPr/>
        </p:nvPicPr>
        <p:blipFill>
          <a:blip r:embed="rId4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6" descr=""/>
          <p:cNvPicPr/>
          <p:nvPr/>
        </p:nvPicPr>
        <p:blipFill>
          <a:blip r:embed="rId5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0024 L 0.31754 -0.05324 C 0.38403 -0.06527 0.48351 -0.07199 0.58733 -0.07199 C 0.70573 -0.07199 0.80035 -0.06527 0.86684 -0.05324 L 1.18473 0.00024 E">
                                      <p:cBhvr>
                                        <p:cTn id="39" dur="2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0.31718 -0.05324 C 0.38385 -0.06528 0.48316 -0.07199 0.58697 -0.07199 C 0.70538 -0.07199 0.79982 -0.06528 0.86631 -0.05324 L 1.18402 1.48148E-006 E">
                                      <p:cBhvr>
                                        <p:cTn id="48" dur="3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31718 -0.06157 C 0.38385 -0.07546 0.48316 -0.0831 0.58698 -0.0831 C 0.70521 -0.0831 0.79982 -0.07546 0.86632 -0.06157 L 1.18402 -7.40741E-007 E">
                                      <p:cBhvr>
                                        <p:cTn id="52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0.31719 -0.06157 C 0.38386 -0.07546 0.48316 -0.0831 0.58698 -0.0831 C 0.70521 -0.0831 0.79983 -0.07546 0.86632 -0.06157 L 1.18403 -2.96296E-006 E">
                                      <p:cBhvr>
                                        <p:cTn id="54" dur="3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62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3E6D6-764F-4743-9BCE-16F12D41A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-4419720" y="225432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1064" name="Text Box 3"/>
          <p:cNvSpPr/>
          <p:nvPr/>
        </p:nvSpPr>
        <p:spPr>
          <a:xfrm>
            <a:off x="2988720" y="1447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4"/>
          <p:cNvSpPr/>
          <p:nvPr/>
        </p:nvSpPr>
        <p:spPr>
          <a:xfrm>
            <a:off x="2581200" y="3581280"/>
            <a:ext cx="40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6" descr=""/>
          <p:cNvPicPr/>
          <p:nvPr/>
        </p:nvPicPr>
        <p:blipFill>
          <a:blip r:embed="rId2"/>
          <a:stretch/>
        </p:blipFill>
        <p:spPr>
          <a:xfrm>
            <a:off x="-4433760" y="223992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6" descr=""/>
          <p:cNvPicPr/>
          <p:nvPr/>
        </p:nvPicPr>
        <p:blipFill>
          <a:blip r:embed="rId3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6" descr=""/>
          <p:cNvPicPr/>
          <p:nvPr/>
        </p:nvPicPr>
        <p:blipFill>
          <a:blip r:embed="rId4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6" descr=""/>
          <p:cNvPicPr/>
          <p:nvPr/>
        </p:nvPicPr>
        <p:blipFill>
          <a:blip r:embed="rId5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66" dur="2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5" dur="5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9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1" dur="5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169E8-D81F-4416-8195-DDEE448D5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3"/>
          <p:cNvSpPr/>
          <p:nvPr/>
        </p:nvSpPr>
        <p:spPr>
          <a:xfrm>
            <a:off x="2997360" y="1447920"/>
            <a:ext cx="31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2590200" y="358128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1"/>
          <a:stretch/>
        </p:blipFill>
        <p:spPr>
          <a:xfrm>
            <a:off x="-129528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2" descr=""/>
          <p:cNvPicPr/>
          <p:nvPr/>
        </p:nvPicPr>
        <p:blipFill>
          <a:blip r:embed="rId2"/>
          <a:stretch/>
        </p:blipFill>
        <p:spPr>
          <a:xfrm>
            <a:off x="-1371600" y="228600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2" descr=""/>
          <p:cNvPicPr/>
          <p:nvPr/>
        </p:nvPicPr>
        <p:blipFill>
          <a:blip r:embed="rId3"/>
          <a:stretch/>
        </p:blipFill>
        <p:spPr>
          <a:xfrm>
            <a:off x="-137160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" descr=""/>
          <p:cNvPicPr/>
          <p:nvPr/>
        </p:nvPicPr>
        <p:blipFill>
          <a:blip r:embed="rId4"/>
          <a:stretch/>
        </p:blipFill>
        <p:spPr>
          <a:xfrm>
            <a:off x="-1447920" y="2286000"/>
            <a:ext cx="110484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93" dur="2000" fill="hold"/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2" dur="5000" fill="hold"/>
                                        <p:tgtEl>
                                          <p:spTgt spid="1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6" dur="2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8" dur="5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a science wor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r faster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79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15553-7B6C-4A98-BF95-7B6FAE76A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2"/>
          <p:cNvSpPr/>
          <p:nvPr/>
        </p:nvSpPr>
        <p:spPr>
          <a:xfrm>
            <a:off x="1605240" y="284328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94CF2-0891-4978-AF89-38ACE5D07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83" name="Text Box 2"/>
          <p:cNvSpPr/>
          <p:nvPr/>
        </p:nvSpPr>
        <p:spPr>
          <a:xfrm>
            <a:off x="1969560" y="392112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4" name="Group 5"/>
          <p:cNvGrpSpPr/>
          <p:nvPr/>
        </p:nvGrpSpPr>
        <p:grpSpPr>
          <a:xfrm>
            <a:off x="-1893960" y="2143080"/>
            <a:ext cx="1712880" cy="1712880"/>
            <a:chOff x="-1893960" y="2143080"/>
            <a:chExt cx="1712880" cy="1712880"/>
          </a:xfrm>
        </p:grpSpPr>
        <p:pic>
          <p:nvPicPr>
            <p:cNvPr id="1085" name="Picture 6" descr=""/>
            <p:cNvPicPr/>
            <p:nvPr/>
          </p:nvPicPr>
          <p:blipFill>
            <a:blip r:embed="rId1"/>
            <a:stretch/>
          </p:blipFill>
          <p:spPr>
            <a:xfrm>
              <a:off x="-1893960" y="2143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7" descr=""/>
            <p:cNvPicPr/>
            <p:nvPr/>
          </p:nvPicPr>
          <p:blipFill>
            <a:blip r:embed="rId2"/>
            <a:stretch/>
          </p:blipFill>
          <p:spPr>
            <a:xfrm>
              <a:off x="-1817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8" descr=""/>
            <p:cNvPicPr/>
            <p:nvPr/>
          </p:nvPicPr>
          <p:blipFill>
            <a:blip r:embed="rId3"/>
            <a:stretch/>
          </p:blipFill>
          <p:spPr>
            <a:xfrm>
              <a:off x="-674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8" name="Text Box 9"/>
          <p:cNvSpPr/>
          <p:nvPr/>
        </p:nvSpPr>
        <p:spPr>
          <a:xfrm>
            <a:off x="1406880" y="14176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2" descr=""/>
          <p:cNvPicPr/>
          <p:nvPr/>
        </p:nvPicPr>
        <p:blipFill>
          <a:blip r:embed="rId4"/>
          <a:stretch/>
        </p:blipFill>
        <p:spPr>
          <a:xfrm>
            <a:off x="-1676520" y="4952880"/>
            <a:ext cx="1104840" cy="1138320"/>
          </a:xfrm>
          <a:prstGeom prst="rect">
            <a:avLst/>
          </a:prstGeom>
          <a:ln w="0">
            <a:noFill/>
          </a:ln>
        </p:spPr>
      </p:pic>
      <p:grpSp>
        <p:nvGrpSpPr>
          <p:cNvPr id="1090" name="Group 5"/>
          <p:cNvGrpSpPr/>
          <p:nvPr/>
        </p:nvGrpSpPr>
        <p:grpSpPr>
          <a:xfrm>
            <a:off x="-1905120" y="2173320"/>
            <a:ext cx="1712880" cy="1712880"/>
            <a:chOff x="-1905120" y="2173320"/>
            <a:chExt cx="1712880" cy="1712880"/>
          </a:xfrm>
        </p:grpSpPr>
        <p:pic>
          <p:nvPicPr>
            <p:cNvPr id="1091" name="Picture 6" descr=""/>
            <p:cNvPicPr/>
            <p:nvPr/>
          </p:nvPicPr>
          <p:blipFill>
            <a:blip r:embed="rId5"/>
            <a:stretch/>
          </p:blipFill>
          <p:spPr>
            <a:xfrm>
              <a:off x="-1905120" y="217332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7" descr=""/>
            <p:cNvPicPr/>
            <p:nvPr/>
          </p:nvPicPr>
          <p:blipFill>
            <a:blip r:embed="rId6"/>
            <a:stretch/>
          </p:blipFill>
          <p:spPr>
            <a:xfrm>
              <a:off x="-1828800" y="34686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Picture 8" descr=""/>
            <p:cNvPicPr/>
            <p:nvPr/>
          </p:nvPicPr>
          <p:blipFill>
            <a:blip r:embed="rId7"/>
            <a:stretch/>
          </p:blipFill>
          <p:spPr>
            <a:xfrm>
              <a:off x="-685800" y="34686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4" name="Picture 2" descr=""/>
          <p:cNvPicPr/>
          <p:nvPr/>
        </p:nvPicPr>
        <p:blipFill>
          <a:blip r:embed="rId8"/>
          <a:stretch/>
        </p:blipFill>
        <p:spPr>
          <a:xfrm>
            <a:off x="-1714680" y="5033880"/>
            <a:ext cx="110520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L 1.25504 -0.01505 E">
                                      <p:cBhvr>
                                        <p:cTn id="133" dur="2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1.24792 -0.00509 E">
                                      <p:cBhvr>
                                        <p:cTn id="140" dur="2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1111 L 1.25416 -0.02477 E">
                                      <p:cBhvr>
                                        <p:cTn id="144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1111 L 1.2566 -0.01481 E">
                                      <p:cBhvr>
                                        <p:cTn id="146" dur="2000" fill="hold"/>
                                        <p:tgtEl>
                                          <p:spTgt spid="10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58646-9681-4489-96EB-003A68770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7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9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158" dur="5000" fill="hold"/>
                                        <p:tgtEl>
                                          <p:spTgt spid="1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67" dur="5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171" dur="5000" fill="hold"/>
                                        <p:tgtEl>
                                          <p:spTgt spid="1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1.47014 -0.01343 E">
                                      <p:cBhvr>
                                        <p:cTn id="173" dur="5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680" y="75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a sciene name f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“heavy” 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04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A7BA2-6F05-48B9-9BEC-522AA453F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"/>
          <p:cNvSpPr/>
          <p:nvPr/>
        </p:nvSpPr>
        <p:spPr>
          <a:xfrm>
            <a:off x="2748240" y="283212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5:58:28Z</dcterms:created>
  <dc:creator>Joe Afflerbach</dc:creator>
  <dc:description/>
  <dc:language>en-US</dc:language>
  <cp:lastModifiedBy>Afflerbach, Joe</cp:lastModifiedBy>
  <dcterms:modified xsi:type="dcterms:W3CDTF">2015-03-24T15:56:10Z</dcterms:modified>
  <cp:revision>23</cp:revision>
  <dc:subject/>
  <dc:title>Chapter 6   Momentum and Collisions</dc:title>
</cp:coreProperties>
</file>